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127-1C00-45D1-A005-B4114B10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BD3-6139-40E8-A0AF-DAD9134F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5B74-59AE-45BD-9001-EFBFE924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8375-E7E1-402C-A3A1-A7365F7E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pload.wikimedia.org/wikipedia/en/b/b4/Citric_acid_cycle_noi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F3D7-3D8C-462E-B65D-10017915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6A4B-10A4-4576-90DC-4E43C6EA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64D6-75F4-474B-A808-2FE87AE7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F7E6-9F56-40D3-8EA5-7BBEC2D61A8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75F5-6C97-4DCC-8B05-B50F1B96B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362D-3407-4DD4-811E-A523D9E9E0E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B7F-C16A-48D0-B51B-04134B2A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E76-E93D-4E89-8D87-A25AE766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Yeast makes ethanol (biofuel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actate when not enough O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C82F-748A-4AC9-937A-1341303B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76D4-B6AC-471A-AD71-53EB6322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992B-D2ED-4A78-9584-88FB2228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zyme A is a vitamin B5 deri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8BA-14A0-4FD7-B535-3D55B377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D69-DF83-4103-A871-23A03942E0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CDD-5F15-4B97-AB5E-71580A3A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D1F-7E99-4D19-9B3F-2292C7FC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EB9-949F-45CB-86BE-3A1D3997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105-F2ED-4F23-972B-AAB70D62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A6A-3CCD-4C24-9ECF-C02D859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AB6-10FA-4452-B91A-E5BFDB5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AA5-C2C6-4B22-98CE-5C30E14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2A1-10A5-4A5C-A532-1B67606D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F5B-1FA8-48BB-A62D-1B0367DF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7A4-3F1F-4A93-B1B7-C21456F5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725-C394-4BBA-8E0B-53B8AA1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BB7-631F-463B-B878-3A20939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CD0-A438-43C8-A50A-CBB2DEB4E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43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5640" y="1628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ric Acid Cycle (Kreb’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ile:Lemon-edit1.jpg"/>
          <p:cNvPicPr/>
          <p:nvPr/>
        </p:nvPicPr>
        <p:blipFill>
          <a:blip r:embed="rId1"/>
          <a:stretch/>
        </p:blipFill>
        <p:spPr>
          <a:xfrm>
            <a:off x="2484360" y="3213000"/>
            <a:ext cx="44341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404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 (Krebs Cyc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2852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900000" y="1413000"/>
            <a:ext cx="748836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generate more high energy molecules (NADH,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itric_acid_cycle_noi"/>
          <p:cNvPicPr/>
          <p:nvPr/>
        </p:nvPicPr>
        <p:blipFill>
          <a:blip r:embed="rId1"/>
          <a:stretch/>
        </p:blipFill>
        <p:spPr>
          <a:xfrm>
            <a:off x="468360" y="87480"/>
            <a:ext cx="835164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kreb_cycle"/>
          <p:cNvPicPr/>
          <p:nvPr/>
        </p:nvPicPr>
        <p:blipFill>
          <a:blip r:embed="rId1"/>
          <a:stretch/>
        </p:blipFill>
        <p:spPr>
          <a:xfrm>
            <a:off x="3419640" y="1052640"/>
            <a:ext cx="5717880" cy="490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24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actions 3,4,6,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l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ric Acid Cycl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 cycles for EACH glucose molec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cetyl-Co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xaloacetate 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leas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 NADH produc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 FAD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produc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 ATP produc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y now, 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el for th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electron transport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for making lots of 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ric Acid Cycle Summary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http://highered.mcgraw-hill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ttp://tinyurl.com/l9b9k4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confused about the Electron Transport Chain, this animation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ttp://tinyurl.com/nnabv9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R: 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5160" y="1052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tient is admitted unconscious. Mentioned that she had general weakness, giddiness, headaches, vertigo, confusion, and perceived difficulty in brea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reathing is now rapid and patient is entering a deep coma, with cherry red skin colour. You suspect cardiac arrest is co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83840" y="550548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File:ORNGE C--GYNH.JPG"/>
          <p:cNvPicPr/>
          <p:nvPr/>
        </p:nvPicPr>
        <p:blipFill>
          <a:blip r:embed="rId1"/>
          <a:stretch/>
        </p:blipFill>
        <p:spPr>
          <a:xfrm>
            <a:off x="5148360" y="4230720"/>
            <a:ext cx="3512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tient worked in at a gold mining site and there was a release of hydrogen cyan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39640" y="231156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yanid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n inhibitor of enzyme cytochrome c oxidase in the electron transport chain. It attaches to the iron within this protein. The binding of cyanide to this enzyme prevents transport of electrons from cytochrome c to oxygen (can’t use electron transport chain)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98960" y="5505480"/>
            <a:ext cx="62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happening to the pat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3.bp.blogspot.com/-MJisxWVfZPA/UEF_-1krN-I/AAAAAAAAr9s/PQMfuCq_phg/s1600/Metabolic_Pathways_for_plotter_landscape_quantized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258560"/>
            <a:ext cx="626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ropine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eats bradycardia (a heart rate &lt; 60 beats per minu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ydroxocobalamin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vitamin B12a) binds with the cyanide to form the harmless cyanocobala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pinephri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Treat cardiac arrest, return of spontaneous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fibrillator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et the heart beat to a normal 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File:Syringe2.jpg"/>
          <p:cNvPicPr/>
          <p:nvPr/>
        </p:nvPicPr>
        <p:blipFill>
          <a:blip r:embed="rId1"/>
          <a:stretch/>
        </p:blipFill>
        <p:spPr>
          <a:xfrm>
            <a:off x="6902280" y="170028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File:Defibrillation Electrode Position.jpg"/>
          <p:cNvPicPr/>
          <p:nvPr/>
        </p:nvPicPr>
        <p:blipFill>
          <a:blip r:embed="rId2"/>
          <a:stretch/>
        </p:blipFill>
        <p:spPr>
          <a:xfrm>
            <a:off x="7037280" y="3789360"/>
            <a:ext cx="1841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pg 177-181 (ETC &amp; Chemiosm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 pg 182 # 4,8,9,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CellRespiration.svg"/>
          <p:cNvPicPr/>
          <p:nvPr/>
        </p:nvPicPr>
        <p:blipFill>
          <a:blip r:embed="rId1"/>
          <a:stretch/>
        </p:blipFill>
        <p:spPr>
          <a:xfrm>
            <a:off x="0" y="176040"/>
            <a:ext cx="907560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et Organ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085760"/>
          <a:ext cx="8713800" cy="5546880"/>
        </p:xfrm>
        <a:graphic>
          <a:graphicData uri="http://schemas.openxmlformats.org/drawingml/2006/table">
            <a:tbl>
              <a:tblPr/>
              <a:tblGrid>
                <a:gridCol w="1873080"/>
                <a:gridCol w="1436760"/>
                <a:gridCol w="1563840"/>
                <a:gridCol w="1979640"/>
                <a:gridCol w="1860480"/>
              </a:tblGrid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5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yru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 A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A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 NA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 ox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l matr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yruvate + 2 C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+ 2 acetyl-C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 NA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ric Aci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rebs cy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l matr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cetyl-CoA +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A +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 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 A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 NADH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 FAD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5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Transport Chain (Oxidative phosphoryl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l membr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4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(s) 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(g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(g) + 6 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l) + 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G = −2880 kJ per mol of C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8 ATP molec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4"/>
          <p:cNvSpPr/>
          <p:nvPr/>
        </p:nvSpPr>
        <p:spPr>
          <a:xfrm>
            <a:off x="2076480" y="1523880"/>
            <a:ext cx="6121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96920" y="2436840"/>
            <a:ext cx="612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011320" y="4705200"/>
            <a:ext cx="612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96920" y="3228840"/>
            <a:ext cx="6678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065320" y="5516640"/>
            <a:ext cx="68817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09_18PyruvateInCatabolism_L"/>
          <p:cNvPicPr/>
          <p:nvPr/>
        </p:nvPicPr>
        <p:blipFill>
          <a:blip r:embed="rId1"/>
          <a:stretch/>
        </p:blipFill>
        <p:spPr>
          <a:xfrm>
            <a:off x="1619280" y="1278000"/>
            <a:ext cx="5545080" cy="5186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ile:Osaka07 D6A M200M nearfinish.jpg"/>
          <p:cNvPicPr/>
          <p:nvPr/>
        </p:nvPicPr>
        <p:blipFill>
          <a:blip r:embed="rId2"/>
          <a:stretch/>
        </p:blipFill>
        <p:spPr>
          <a:xfrm>
            <a:off x="71280" y="4221000"/>
            <a:ext cx="3205440" cy="238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File:S cerevisiae under DIC microscopy.jpg"/>
          <p:cNvPicPr/>
          <p:nvPr/>
        </p:nvPicPr>
        <p:blipFill>
          <a:blip r:embed="rId3"/>
          <a:stretch/>
        </p:blipFill>
        <p:spPr>
          <a:xfrm>
            <a:off x="71280" y="213372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mitochondria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yruvate-oxidation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Oxidative decarboxylation of pyruv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decarboxy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ttachment of coenzyme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87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179280" y="1100160"/>
            <a:ext cx="7318440" cy="4214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4487400" y="5084640"/>
            <a:ext cx="38286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ruv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ety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DH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Matt</cp:lastModifiedBy>
  <dcterms:modified xsi:type="dcterms:W3CDTF">2015-10-14T20:29:26Z</dcterms:modified>
  <cp:revision>92</cp:revision>
  <dc:subject/>
  <dc:title>Aerobic Cellular Respiration</dc:title>
</cp:coreProperties>
</file>